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2857-70FE-41A1-BB37-F4C22D48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FA20-2F10-4466-B607-6039F56E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F83C-DAE7-4520-A4D6-1F551C2E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5E1-D744-4C12-B038-1BAF0B30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82CA-CF07-47E0-9D84-46392711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7FCA-1387-41D7-855C-0A01F90E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DE08-6D7E-4CE2-878D-8386B72C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095D-0F27-4DA0-94DE-03B74C14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09E0-B1CB-4101-BF9F-7319089F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8697-967E-4519-8ADC-8449E5B2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5A3A-F75D-452E-A376-4D5029F7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E15-830C-40FB-A79A-E36ECEE4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2198-4358-45CC-BE14-9264294C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6E69-45A2-451B-AF96-57CA2249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9468-6E43-4E3A-AD9E-F7C00A4F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20A9-914B-4838-9870-B53746FB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8E4F-1BF7-49EF-B0F1-B20F6F74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DBE5-83D7-444B-9B7A-CF6D66AF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6AC-D20C-4C72-A2BA-BE26C0A9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DA6-71D3-480F-85CB-254BE914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18E3-BB34-4665-9269-702E41CB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47E-2526-42C6-9C24-5D8203AF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FEB3-CD19-4D92-A77D-F2F69345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FF6E-7132-4F48-B945-756453BD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8D03-CD0E-4D10-B6A6-11F186AC5E4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6FD6-0529-468B-93EB-DDE9908CBD6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1 Variable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2 Variable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Variable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16T15:54:15Z</dcterms:modified>
  <cp:revision>14</cp:revision>
  <dc:subject/>
  <dc:title>Trend Cyclic</dc:title>
</cp:coreProperties>
</file>